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0E43A-2494-4A0F-A905-18457D8CB4E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Номер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87C1E-BC18-414F-9A75-D572CEA15F4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5EC1B-622D-454C-803E-8D4D2D5A6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CC091-1FF9-4396-A25D-D7E94C472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3B018-BBB6-40EC-A0AC-CD126DC98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5D5E1-8C2E-4CF5-890F-BBA4A4D46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FB421-29C1-436F-BB8E-7BFA3D128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8A461-891D-4123-B04C-8D28DE1D6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5FF81-1455-480D-99B2-C9609ACDF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627F5-D98C-4847-94E2-E552AECC4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18A09-5B4F-4B8D-BFA7-2CA9EBEFA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215A7-1CA8-4B5A-95BA-AED68F70D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1BA66-A581-410D-9C9D-C04BB022E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A58C0-8CD3-49F4-982D-B7B1276B7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BF1D2-F0FA-4F44-B5FA-9CF84A591EB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2EE4A-73F6-46ED-B515-D28234AF36A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Объект 2"/>
          <p:cNvGraphicFramePr/>
          <p:nvPr/>
        </p:nvGraphicFramePr>
        <p:xfrm>
          <a:off x="314280" y="1476360"/>
          <a:ext cx="8829720" cy="5302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0" name="Объект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4280" y="1476360"/>
                    <a:ext cx="8829720" cy="530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Прямоугольник 3"/>
          <p:cNvSpPr/>
          <p:nvPr/>
        </p:nvSpPr>
        <p:spPr>
          <a:xfrm>
            <a:off x="647640" y="62244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Изменение муниципального долга на 1 июня 2024 г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SapphireHiddenControl" descr=""/>
          <p:cNvPicPr/>
          <p:nvPr/>
        </p:nvPicPr>
        <p:blipFill>
          <a:blip r:embed="rId3"/>
          <a:stretch/>
        </p:blipFill>
        <p:spPr>
          <a:xfrm>
            <a:off x="0" y="0"/>
            <a:ext cx="6095880" cy="40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8596F-445A-4113-A14D-82A695F4105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2"/>
          <p:cNvSpPr/>
          <p:nvPr/>
        </p:nvSpPr>
        <p:spPr>
          <a:xfrm>
            <a:off x="520560" y="501480"/>
            <a:ext cx="788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Структура муниципального долга на 1 июня 2024го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Объект 3"/>
          <p:cNvGraphicFramePr/>
          <p:nvPr/>
        </p:nvGraphicFramePr>
        <p:xfrm>
          <a:off x="182520" y="1044720"/>
          <a:ext cx="9875880" cy="6075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6" name="Объект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520" y="1044720"/>
                    <a:ext cx="9875880" cy="607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4T05:42:13Z</dcterms:created>
  <dc:creator>User</dc:creator>
  <dc:description/>
  <dc:language>en-US</dc:language>
  <cp:lastModifiedBy>RePack by Diakov</cp:lastModifiedBy>
  <cp:lastPrinted>2020-01-10T05:43:34Z</cp:lastPrinted>
  <dcterms:modified xsi:type="dcterms:W3CDTF">2024-06-03T06:28:45Z</dcterms:modified>
  <cp:revision>169</cp:revision>
  <dc:subject/>
  <dc:title>Презентация PowerPoint</dc:title>
</cp:coreProperties>
</file>