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326C-F805-4872-844F-26E892F262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C315-7B26-4FCA-BCFA-F5FCE97244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71DB-6E31-4114-ABCB-5FBEE32A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9472-29CF-40D7-A249-1983EC1A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35B8-A83D-45EA-9581-D89C1BA2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7FDE-A094-4FAF-B6BD-4FCAA664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0644-BB49-419D-B326-AACD7385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BD32-2908-4075-A57A-5760868D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DB03-E132-414F-BF9B-0C6014AC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DE8F-2885-472A-BA74-833642E0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0C43-D845-4BBD-BF4F-DEF4B75C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7113-8469-40A1-BABE-486A02B3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E92D-58C9-45F8-8D30-B07B22AE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30CD-9E0E-4C7C-BC67-40147B95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B65A-B296-4F4D-AE40-C04FFE7C43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B3BE-FBC1-41AB-B4B1-E5B5C08056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314280" y="1476360"/>
          <a:ext cx="8829720" cy="530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476360"/>
                    <a:ext cx="8829720" cy="53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ноября 202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E8D3-BCFB-4E93-8F37-86BA4A36F3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ноября 2024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4-12-02T05:56:22Z</dcterms:modified>
  <cp:revision>175</cp:revision>
  <dc:subject/>
  <dc:title>Презентация PowerPoint</dc:title>
</cp:coreProperties>
</file>