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5E4-EB0C-4E0F-BB22-5E85B2F42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5F5-A338-46AE-9F9A-39D2EBE25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025-2ABE-4205-A8EA-4914FE82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6DB-94AD-499E-8ACD-6ACAA4E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046-B083-43D5-9688-36B230B4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7E6-C71F-4A38-BD47-DFFF0B8A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722-7CD9-44F0-9E86-D4186B19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D7C-1C3E-4C6F-B56F-7B40CE54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73F-BF33-408C-992C-8FBC66EE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CE1-B55B-4614-B4AE-84391ECA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AE0-9D6C-4167-91AB-90EF678B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1B5-FF52-4049-B965-565980A2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3D8-0520-4F04-90A9-F27E9C8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EC2-4BE7-4DF0-95D7-7D08B41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DC3C-FB62-4D72-8BCA-D427E23AF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D76-E509-47F2-B2CF-E31116176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апрел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C668-2C3E-4F79-91E3-F8FD26E79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прел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4-01T04:35:52Z</dcterms:modified>
  <cp:revision>167</cp:revision>
  <dc:subject/>
  <dc:title>Презентация PowerPoint</dc:title>
</cp:coreProperties>
</file>