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8F9-0906-4055-983D-CAC04CBF4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AEB-5A06-4066-8C76-90BA82EEE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1F5-E370-4DAC-8A9D-C0A9E025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691-828C-41F5-98E7-95046B09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A76-EFF2-42EF-9E45-84E2A57B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DFB-EF4B-41E9-895D-34CE7DC8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0C1-AFF2-4A20-81AF-C5829773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161-60FD-4297-9662-38063DC7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C39-BBB4-4B66-8FD7-28B467A3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2BA-FCBC-4F1F-ACD9-35D145E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37C-9F0F-4196-8B11-8C62302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DD7-524D-4A95-B850-22B5F31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54D-014A-441D-8AD9-3C0B56C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975-D75C-4326-9E00-D44E3CA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A6E2-4D8A-4A8D-9FB5-B2BE8E19D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11AF-2C6B-42CD-9D9B-619E98824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сентя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A65-8B98-45CC-B864-5019A6EE0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сентя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9-02T09:43:00Z</dcterms:modified>
  <cp:revision>172</cp:revision>
  <dc:subject/>
  <dc:title>Презентация PowerPoint</dc:title>
</cp:coreProperties>
</file>