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88D3-1BB5-4CFB-9668-B685187AAE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2E8E-EF14-45CC-9908-B38C81E32C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8B40-ADA6-4E00-93CC-48AC5F5E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C52C-1CFE-4DF6-BD3A-E9C0ABFE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AA97-B260-4EB6-99C1-AFB1569C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2404-04EB-41D8-A841-6CDFF510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B8D-A72F-45A3-9FA0-E7BA4636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4D6C-E209-40EE-9455-EC145622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4EF2-5DDC-408C-BBCC-C8118B6B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A0F-98C9-4098-A76F-071D5F60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28F-B94B-43AD-8F15-012FA22E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6448-C8B0-430F-924A-867573A5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FE2-C511-4DDF-83B7-95C25BBD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9B4-3814-4A0A-800A-2158490B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B89B-07A4-41E5-A513-B4E6C2378D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D3EF-940E-426C-A3F0-72B4B24593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мая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6037-5794-47B3-B101-56736E58E9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мая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04-24T04:30:52Z</dcterms:modified>
  <cp:revision>168</cp:revision>
  <dc:subject/>
  <dc:title>Презентация PowerPoint</dc:title>
</cp:coreProperties>
</file>