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BE1E-4D50-46A9-9FAA-7D6AEDAFA2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912D-88EB-4FD2-BFF6-72ADDF8EF0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C0A-B8EB-4569-BB70-02CB6040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C281-641D-4849-A09F-37FD8A29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2294-CF4C-40D1-ABC5-55A1A568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C8B-1BF2-4BDA-B5ED-348F5BB3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56E5-4AA9-4F11-AEE8-6A4D215D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F030-6595-4BDD-98D7-172543DF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714F-F4D3-4502-894C-CD556A53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6810-BC78-4ABD-A02B-890B005F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05AC-80D2-4697-B573-1666F728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253F-7DDB-4986-BEA5-95B90512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7C64-4E77-40A3-BA28-C8D700D4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DEFF-34E5-4D85-B293-0AE254B4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3EB0-73D8-48C3-A104-9EB9D62913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58CD-1CD8-4788-9AE9-365D400C86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314280" y="1476360"/>
          <a:ext cx="8829720" cy="53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476360"/>
                    <a:ext cx="882972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декабря 202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9D0D-0225-494C-B566-DD22CC4C47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декабря 2024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4-12-02T05:49:43Z</dcterms:modified>
  <cp:revision>175</cp:revision>
  <dc:subject/>
  <dc:title>Презентация PowerPoint</dc:title>
</cp:coreProperties>
</file>