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371D-CCB5-4FB7-ABBB-0CD8600EC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8D3D-DEE5-47AA-A73C-A6F5BFCB80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39E-D158-4448-A4A9-B08A706C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23D-2EE9-42BD-A621-39AF0D0C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CAD-0492-4791-B835-ECA9CEA0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C04-5FBA-4570-B002-13034D4A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FFE-8BDC-4BC2-9700-9913D298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3E1-D999-443B-A48C-5FEF9647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372-4114-47D6-BA80-BCB00440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237-6C74-45E8-9688-B081389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47F-715D-438F-9346-413A28A5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1E6-05BE-4346-91EB-443BCDD6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3B9-2C80-4BDC-B6D9-1AA9DB7A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D46-3BFE-4480-A44D-1DECC586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8110-3272-4C48-9FC7-3B9A1E260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5AF7-F273-48A9-8B38-90A30D906C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марта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7085-15F4-4DA3-A404-B2469208B8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рта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3-01T06:21:29Z</dcterms:modified>
  <cp:revision>165</cp:revision>
  <dc:subject/>
  <dc:title>Презентация PowerPoint</dc:title>
</cp:coreProperties>
</file>