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F979-8D1A-4B40-93E5-1103CDBE5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D39-AF33-4F45-B7B9-F78E63689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BF7-8D0D-473B-9F22-419646B2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4FE-FB82-4829-AA16-F1ECB43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5A1-333C-43D9-8B89-8D93CCEA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237-437B-452C-8511-55A7D525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A84-934D-474E-9B61-9B0D24F8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20A-1784-4242-B7D8-C145C3D4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DCF-AE7C-4FE5-A721-453B6FD8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31C-C110-467B-B82F-044A16C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1AA-9FA7-4B24-A959-6C23FE0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E9C-DDDD-4F27-A71B-FAA27D7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B81-03E6-4A3C-8B46-A882CA1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FFB-E5F1-416B-8C53-39FA596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02E-AF85-4566-A1A5-58BF4E75B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0FF-BA9D-4B84-B4A2-1434D8568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октя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477-7558-4393-B899-3BF5A3B49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октя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9-30T11:16:16Z</dcterms:modified>
  <cp:revision>173</cp:revision>
  <dc:subject/>
  <dc:title>Презентация PowerPoint</dc:title>
</cp:coreProperties>
</file>