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D86-BA41-4CFD-832D-3BDED2204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7F73-606E-47B7-A1E2-E2CE8C7A7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608-9649-4C56-93F0-F187D188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177-F1A9-408D-A7BA-D32EEBA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070-A3D8-4DD7-A2D9-421D48B5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1A2-0DCC-4092-8C78-E7814EC4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728-E28A-4E54-BA5A-60E9DE7A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EE7-F1C6-4BE6-B0AE-2D95102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4C5-10B9-4220-A74C-4C9EA74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148-B8EB-409E-90C2-3EDF5B90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66B-6DB9-4A83-B63D-2FBFA504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8C0-AC24-43E2-AE09-AFCD4C7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E57-573D-4A70-8CF1-3455899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099-48A9-49BF-BFBA-1D3F6D4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19C-7BA5-439F-B83E-166CBE64A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377D-8C1F-4F71-9278-D4887BC7B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января 202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CAE-C5D2-429B-81AF-280838AC7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января 2025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5-01-10T10:54:18Z</dcterms:modified>
  <cp:revision>176</cp:revision>
  <dc:subject/>
  <dc:title>Презентация PowerPoint</dc:title>
</cp:coreProperties>
</file>