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F17-DFF1-4691-BC15-4CC7742C4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59B-58E8-411B-AF3A-8B124B129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178-DBA0-48F9-84EA-24D9C38B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984-A416-4E38-946E-61557BC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5A1-773F-4BF8-B4AD-0EA04CFD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D09-FAE9-4EDD-8F04-C10BB9FB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4DF-DC94-4883-8FA1-605D9A5C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64A-148B-4F50-AEAA-DABAF62F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CB7-D27F-4C83-A779-B2F690A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586-CA3E-43EE-8033-0797844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FB2-AF0D-4BF4-B54F-8A340EE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5F2-27D8-49D7-A69A-9A0C5D4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571-48BB-4EFB-88C6-6A56DB5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A26-1C11-4C8C-98CB-986ADAD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C98F-6BA3-4FF1-ADC5-686C65A7E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4A1-2111-46CA-B43E-3B6E7E15D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февра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94A-DAC3-4D48-8D5D-47E4F8CAF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февра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1-25T12:01:05Z</dcterms:modified>
  <cp:revision>164</cp:revision>
  <dc:subject/>
  <dc:title>Презентация PowerPoint</dc:title>
</cp:coreProperties>
</file>