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80F9-B083-416A-8A22-A359B1500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8F7-9000-493B-AB95-CD39455C9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AC7-F949-4563-8620-4F53A2F8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09B-A1C2-4502-8983-8D43EED3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038-5DC7-4183-87F2-84BCB65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C40-B04E-4741-AB92-F597BE9C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97C-6CCF-4E65-A06E-3DB493D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7B8-B9E3-429B-8004-0B68146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DE0-CB1A-43E2-8991-1EED025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6D7-DC3C-466C-B80E-929FA55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0A8-7F7F-46A4-BE3C-FDE8ECD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610-4F66-4775-88D7-2DCBFC0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8CE-A78F-480E-9A10-C91A370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2B6-C205-4361-BCB1-D0B58E7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099B-90C9-4C42-9A57-BF57B7E92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8FBD-4283-4A55-BAC4-F18C415DD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ию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C5A-E21A-48A9-B3E3-C8C4781B6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6-28T10:44:45Z</dcterms:modified>
  <cp:revision>170</cp:revision>
  <dc:subject/>
  <dc:title>Презентация PowerPoint</dc:title>
</cp:coreProperties>
</file>