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5533-1C2E-4C59-8949-9D6815634D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CB4F-6C62-419D-B4B2-405D236DAD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68D6-2C5C-4E3C-A5E6-B2DA38957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8CCA-5450-435D-955E-A292517B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9950-1B39-464B-BD4D-D3517B59D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8A6D-7A91-4E79-A29B-068EB7EE8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8708-9393-487E-8F2B-5EA06951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6E26-0045-47B2-B853-6B01CED6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B191-97BE-4E63-B171-607EC2EB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F5B6-16A3-4702-96E7-453B8ADD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BA50-02BF-470D-93EF-B74C0912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838B-D913-4631-B8A4-426CBE64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A4DF-2D53-462B-942C-D3116DCE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4380-C8F9-4478-ABE3-699D25BC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CB06-AD42-45D1-9493-2D115B2EE2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6A71-45A4-455B-8C92-C4E16F9DF7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314280" y="1476360"/>
          <a:ext cx="8829720" cy="530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476360"/>
                    <a:ext cx="8829720" cy="530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муниципального долга на 1 августа 2024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5D6D-39DC-494A-8A1B-C342DCBA87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на 1 августа 2024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182520" y="1044720"/>
          <a:ext cx="9875880" cy="607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1044720"/>
                    <a:ext cx="987588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RePack by Diakov</cp:lastModifiedBy>
  <cp:lastPrinted>2020-01-10T05:43:34Z</cp:lastPrinted>
  <dcterms:modified xsi:type="dcterms:W3CDTF">2024-07-31T11:32:40Z</dcterms:modified>
  <cp:revision>171</cp:revision>
  <dc:subject/>
  <dc:title>Презентация PowerPoint</dc:title>
</cp:coreProperties>
</file>