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A7A1-E2E3-45EF-9E29-2DC0F8013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692-7CF1-4C5A-A795-E575F1B58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46D-7D19-4508-8872-37D5B364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76D-5CFA-4801-999D-FC286E9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DF4-94EA-4F11-AFA1-7504EBD2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A26-DE8E-452B-9D95-68CBF88C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304-4948-404B-A28E-591129C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4F9-5EB4-4C5E-BF7C-2616B4C8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191-F05C-4316-95BF-633B7D9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8F2-2F8E-4F68-A219-E5D067F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B95-C5B8-41DA-A48E-A9F4188B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899-1B82-4952-B622-CDF8620B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BC8-20F2-4C59-B624-FB685DA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C8D-2145-4E6C-A43C-0C366AC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566-BF58-4894-84AB-4EE282686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A88-F3A8-474C-A89F-812A34464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муниципального долга на 1 сентября 202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EFC4-E359-4305-AA26-11F43BA3B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сентября 2023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182520" y="1044720"/>
          <a:ext cx="98758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1044720"/>
                    <a:ext cx="98758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RePack by Diakov</cp:lastModifiedBy>
  <cp:lastPrinted>2020-01-10T05:43:34Z</cp:lastPrinted>
  <dcterms:modified xsi:type="dcterms:W3CDTF">2023-08-30T06:58:49Z</dcterms:modified>
  <cp:revision>156</cp:revision>
  <dc:subject/>
  <dc:title>Презентация PowerPoint</dc:title>
</cp:coreProperties>
</file>