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CA83-33D3-4284-90EA-6B7F28147C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EFEE-DAA2-4545-841B-3373451301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2750-ACE2-4132-A085-F250B5897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D88D-DA25-406B-A5C7-FEEF0CC8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5E7B-5FFB-4D32-9A78-A8DD3CF40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59C8-6CAE-4C58-B842-0F925A11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6CC9-C134-4FF2-B7A6-0FFA0365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DDDE-4FF9-430D-A50B-356D03CB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FD23-524B-48DF-A98C-528DD59D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5CA5-6EBD-4BDB-8FE5-CA35B404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69B4-A369-4DBC-B263-C52CD4F5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EAF5-0FA0-47DA-B77A-F7CA5FD4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6743-85A6-4B13-B581-C2643ED1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8658-1A08-48A6-A450-8F7CB1A2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A0CB-795B-4437-9C54-8DC32410C4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4380-8384-4C18-83E0-D7897676F6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287280" y="1555920"/>
          <a:ext cx="8829720" cy="530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555920"/>
                    <a:ext cx="8829720" cy="53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верхнего предела муниципального долга на 1 апреля 2023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D604-4576-4DC2-930A-53908F722F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апреля 2023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8758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8758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Наговицына</cp:lastModifiedBy>
  <cp:lastPrinted>2020-01-10T05:43:34Z</cp:lastPrinted>
  <dcterms:modified xsi:type="dcterms:W3CDTF">2023-05-04T11:01:52Z</dcterms:modified>
  <cp:revision>151</cp:revision>
  <dc:subject/>
  <dc:title>Презентация PowerPoint</dc:title>
</cp:coreProperties>
</file>