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B0E7-64F2-451E-A393-0200F63FA0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9CA5-B94B-4525-BC84-3B4226972E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D362-3653-41A3-B52E-88B92DEA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D357-84E2-491E-BA88-14F47FCA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A8F5-D91C-4CAE-87E2-35BAECC87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DB16-D761-4192-B9AA-4045BD49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56A6-25C5-4790-88E5-01353CAB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533F-7873-47C3-A425-10306D36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FEB0-6F66-4EE5-8BEE-0D393F8F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C311-D473-423A-9AE4-FBD1700C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E8F9-5B59-4BA7-9481-F2C81EA1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0B96-FEDB-49AE-A0CD-2355A369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1E51-3664-499D-8A84-240CA923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A0A7-6F65-43CD-81A7-A09A59C0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C7FE-993E-4A7D-8A10-E556919FE6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7810-1FCE-48FF-BD6F-99CF5E18CB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287280" y="1555920"/>
          <a:ext cx="8829720" cy="530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555920"/>
                    <a:ext cx="8829720" cy="53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муниципального долга на 1 ноября 2023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7064-9F68-42A5-AE66-E3C51BBA74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ноября 2023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8758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8758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RePack by Diakov</cp:lastModifiedBy>
  <cp:lastPrinted>2020-01-10T05:43:34Z</cp:lastPrinted>
  <dcterms:modified xsi:type="dcterms:W3CDTF">2023-11-01T04:18:00Z</dcterms:modified>
  <cp:revision>160</cp:revision>
  <dc:subject/>
  <dc:title>Презентация PowerPoint</dc:title>
</cp:coreProperties>
</file>