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645A-4922-44C3-A43D-9A6E87FB65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B895-A66C-4CD4-BDB5-0EBDD99D90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EE1A-D3DA-4E4F-AA7B-B49910BA9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B660-C82C-4E66-B120-326C0E53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CD69-D6D5-4C50-A296-8042D8F14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53D0-F717-44C2-945A-163718BF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4005-91A7-49D7-BCA7-B98C1DB9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05FF-F113-451F-94E3-36137CB5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205A-998C-4168-BC6F-7F9EE655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E401-A18F-4056-B276-3D8D4F4E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D650-2D2B-4892-AF67-53B87979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A447-5F3D-49B4-A11A-49F004BC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F4F4-8ED8-43E3-9047-E874F77D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84E7-E48B-4BD9-9185-2EA51623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45F0-C290-46BE-9BFA-75A53EBD68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79EC-A88F-445F-9541-E103BB3FC7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287280" y="1555920"/>
          <a:ext cx="8829720" cy="530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555920"/>
                    <a:ext cx="8829720" cy="53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муниципального долга на 1 августа 2023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8801-835D-4E0C-9626-186E8AA93D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августа 2023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RePack by Diakov</cp:lastModifiedBy>
  <cp:lastPrinted>2020-01-10T05:43:34Z</cp:lastPrinted>
  <dcterms:modified xsi:type="dcterms:W3CDTF">2023-07-24T09:29:54Z</dcterms:modified>
  <cp:revision>155</cp:revision>
  <dc:subject/>
  <dc:title>Презентация PowerPoint</dc:title>
</cp:coreProperties>
</file>