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3D0-36EE-4012-879B-2C112F86E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1FB9-4C74-4DDC-92F2-5681D1F6E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9EF-C73F-465C-9A82-F79C9F04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AD5-B558-4880-81AF-1C2946F4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CA9-5594-4D1D-B0C2-8131E877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A7B-D192-4AF3-8800-BE9AFD21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7C1-9272-4D4E-8DCA-6A2CC8C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FC8-49C6-4651-84F0-7684BF57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CB3-3C25-484A-BABD-829F42B1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BDC-00F5-46C2-8874-75D90C56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893-864D-4C7B-BFF2-45FC81FB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104-F686-4B0D-880C-8DA6423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D6A-909B-4D40-88C5-C748F5C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BAD-24BC-4B03-9420-5E39DBA8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2C7-2133-4169-AF10-0CA7CA445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E08-1999-46A9-9C7A-7EB233F39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рта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AA6-06FA-480E-AE66-C28F2D0B0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рта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2-27T06:36:09Z</dcterms:modified>
  <cp:revision>148</cp:revision>
  <dc:subject/>
  <dc:title>Презентация PowerPoint</dc:title>
</cp:coreProperties>
</file>