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72AE-32E3-42F7-B15C-53BF262CAF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2F38-AFE2-4DC1-B330-9849850A49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A31A-FE7B-45AE-B974-6899999E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A4D9-87C1-4A22-9832-29F87429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6E28-987F-492F-B2F7-A4C27E2F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F4FB-5330-46B3-BD5B-3D857BAE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7A1D-B701-42F1-B667-1DE4B287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438C-CF82-4C19-A37C-746C522E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EBEF-4A7D-4D88-ACE5-B0A1BD91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805E-6C54-4996-BC92-FB7A3E65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6B48-4C45-4D6F-83F7-E84E73E0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1494-DDAA-4208-8B4B-4A6F5516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6065-1993-4480-B01F-41DB0BDA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A20E-B013-4D9E-8302-20B64026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FB68-10F8-44B3-9CF5-690D30975B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4D4D-E765-45E5-98DF-893E3193E2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июля 202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0BB1-FF85-45B7-BC64-051D1A7B3E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июля 2023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3-06-30T06:06:32Z</dcterms:modified>
  <cp:revision>153</cp:revision>
  <dc:subject/>
  <dc:title>Презентация PowerPoint</dc:title>
</cp:coreProperties>
</file>