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B16B-9A7B-4F58-BC7D-BD16D29DE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83F-9EF6-4F52-B318-834CA02DF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73A-9D26-4F31-8554-7881221C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D86-745B-4B16-A2B2-45FEDFB9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9E9-65BA-4257-A457-4CFE4A4D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0D1-30B2-406E-8A5C-C36E7980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F0E-06E7-4157-9446-685F4D3F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31A-7724-4C80-8A1B-B6CB29F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193-48E4-4082-9631-B009CB3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CD0-5E80-4513-87C0-6B241EA7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18A-BA42-45F8-82D9-4B36B29D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3BF-FF57-41EC-AB17-EA3F92D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594-0989-4629-8BFE-7028E21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657-2DF8-428F-B045-890645E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A022-7E3A-4907-8865-9ED2528316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96F0-AD39-4B8B-9D2F-A653113FE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феврал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62D2-3D9C-4152-A67A-B1C2F7690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феврал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2-01T05:59:56Z</dcterms:modified>
  <cp:revision>147</cp:revision>
  <dc:subject/>
  <dc:title>Презентация PowerPoint</dc:title>
</cp:coreProperties>
</file>