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D4E7-4C68-4606-B418-0540C24C7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E4F4-ED3A-4DE5-8663-C28256AA57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301-582F-436C-914B-40417E4A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EE7-BC6E-4390-BF6C-DBBEBA0E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D74-0418-449B-90BF-EB7A0C42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24E-12F0-41AF-A4EA-F756F716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00F-6313-4395-99F1-F389AB26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880-9E4A-4F2A-9434-053AFA40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2FA-134D-4B3E-9D4F-B416FD3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8B2-F5F5-49EC-84D8-A002CF16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188-7E4C-45B4-B75E-C3661A31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0FE-6DAF-44EA-986C-4FEC0EA6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6FC-903E-4B40-9EBD-A19A05F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1CA-1B5F-4807-BD90-F4A39CC1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089B-F097-4281-987C-468CA9DE9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032F-2360-436E-8FB0-C57FC9300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июн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303-5F44-48F2-8EB9-FD27EF04AE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н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06-01T07:10:23Z</dcterms:modified>
  <cp:revision>151</cp:revision>
  <dc:subject/>
  <dc:title>Презентация PowerPoint</dc:title>
</cp:coreProperties>
</file>