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0DFB-8B50-44EA-A8E6-4DED8D78C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BC9-0313-4065-81E4-A3E007F67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71E-EDE6-4210-9148-98F85019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AF4-BDA6-493B-9CB6-346C4691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FE1-DFC6-42D5-AFC4-EBDD5447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9C2-333B-4751-B3C9-CACFCEBD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128-F276-40D5-AB5B-4E0DAF5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59A-7BD5-412C-A052-AD90C38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5FA-B6E0-4CC0-9D36-90B4B3D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7E0-4ABC-48B9-83EA-D9C99BEC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D22-D0AF-434C-A43A-C1088966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1CF-F080-45DE-8365-479D1D61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754-8D51-4218-A209-20138EF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694-5D79-4C99-9BC8-21C5E41D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4F10-A452-4C5F-B81D-388EE1CAB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A86-C8CD-487C-98B9-C3454E625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ма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E94-C641-44C9-AE06-E7201D86F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ма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3-05-02T04:27:23Z</dcterms:modified>
  <cp:revision>150</cp:revision>
  <dc:subject/>
  <dc:title>Презентация PowerPoint</dc:title>
</cp:coreProperties>
</file>