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3959-EF20-4EDD-87E6-674C3FD83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0976-BBA3-4C93-9B0A-FEC57E11F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665-181A-4EEC-BCC9-1A1B11F2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F74-77A0-4583-975B-2FBB578C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571-DD2E-40FB-8D4C-778CBA73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2D0-6716-42E0-AE64-C1AE0197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AE3-7D03-4582-8CCB-6B37A98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D8D-2408-4178-BE0E-3B88C1F0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462-AB08-4D3B-8BDF-726ECBF7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B4F-DF7E-4CB7-A39A-00EBBAC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107-208F-4FFF-96F0-CC094716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C37-86DA-4007-8F51-28385FAF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AAD-6B29-4A70-AC70-0A205C66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B84-2DAF-4BD2-8363-DF9DA25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3B42-5C76-4485-A719-2ED95ED9B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B969-69FC-42F0-8375-E56C8D675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декаб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A112-EC3A-4411-903A-793059788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декабр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11-14T06:35:42Z</dcterms:modified>
  <cp:revision>161</cp:revision>
  <dc:subject/>
  <dc:title>Презентация PowerPoint</dc:title>
</cp:coreProperties>
</file>