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1F60-CDC5-4CD2-ACC2-912C93594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CFB6-A4A5-489F-9A00-58AB85201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E70-681D-4B51-96CF-FD3720DB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773-115A-43DD-A64E-5496659D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879-6ACA-42ED-B303-D3F2CED7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06A-0BA3-428B-9E0F-E16797D1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4C0-89AC-42D8-AF48-5090DE6F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C68-8AB1-4DF6-A264-5A327302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061-5920-4A75-B75E-547BDEDE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0B8-5D4E-4B04-A520-FAA486A9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526-69BF-498B-91CF-7D4D9104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D6A-EF4E-4890-A0A9-7680A95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F80-6515-448D-A5E9-7DDE5B6B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E5E-8813-49C9-AD99-AECF8049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A961-4823-4198-B6F3-237C7F9135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64BD-8BC8-4A33-A347-EE695133DB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октяб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D871-3AD9-4812-A0BD-78BF29964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октябр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10-02T06:25:07Z</dcterms:modified>
  <cp:revision>159</cp:revision>
  <dc:subject/>
  <dc:title>Презентация PowerPoint</dc:title>
</cp:coreProperties>
</file>