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A32-F77B-47A5-A26D-F83504C3D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EA6-93E7-4991-8CB7-12873D46F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A54-924F-4AA5-A319-F35946E3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4E0-5714-48F6-B6FB-947CBAD1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1C1-6BCC-497B-BBD4-ACFB8F69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F65-1D78-4CFC-A462-8DA2F240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B97-4E5F-40B6-B486-E6D7C440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7EC-510B-4588-9D80-3C01B738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054-AC30-43A9-85C9-BAEA04A8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6F4-343D-440A-B67C-FB61679D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3E1-ECFB-4EA1-9716-F5DFC1D6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31A-25D1-4447-B17A-B0B7CC28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2AC-F4A3-4816-AC8E-D848224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021-E9F4-4F58-96B0-16F1B7B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D724-48E1-4D3B-8A12-39EF57AE52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40FF-DB09-4E4E-983C-6B0C1E750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314280" y="1476360"/>
          <a:ext cx="8829720" cy="53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476360"/>
                    <a:ext cx="882972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января 202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1DD6-1486-4C40-8C00-D77C1D6E6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января 2024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4-01-09T05:03:54Z</dcterms:modified>
  <cp:revision>163</cp:revision>
  <dc:subject/>
  <dc:title>Презентация PowerPoint</dc:title>
</cp:coreProperties>
</file>